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328-F180-4CE5-9BEB-2DF3B05F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718-1E20-4409-BA55-473361CF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E1F-7609-4672-B362-A123B780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110-FEC9-4723-B95F-B843AE2F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938-9F8A-4B29-A27E-372068B6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3DA-AFB1-4325-B656-6C886766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2B4A-6844-4BCF-8895-9C0E31B6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702-1B03-4721-9877-CB567B81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673-9CB0-4A9E-8E3F-A8FD95CC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313-BEA6-40F9-9FA2-7A3433A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8F5-29AD-4E73-A68C-848FBA3D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5BE-5922-4293-B394-5AFE4962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0A584-DE73-444D-97D1-4662E2CA29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24B6F-09AB-4750-A297-F7F00C51C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76040"/>
            <a:ext cx="858672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xas 4-H Photography Judging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2016 PRACTICE SET - #5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OMINANT COLOR PHOT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8640" y="4830480"/>
            <a:ext cx="82504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Photo classes in this Power Point are for you to try your judging skills. Select a class to judge and try your No photograph can be used for any purpose without written permission of the original organization or the photographe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439560"/>
          <a:ext cx="8229600" cy="3486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9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5: DOMINANT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this class of four photos in order of best to worst.  The next four slides has a full screen view of each photo.  Write your placing down on paper then view the last slide of this class for the official placing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and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724800" y="1724040"/>
            <a:ext cx="1895400" cy="1515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53000" y="1724040"/>
            <a:ext cx="1895400" cy="151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597040" y="1724040"/>
            <a:ext cx="1893960" cy="151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531720" y="1724040"/>
            <a:ext cx="18954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5: DOMINANT COLOR– 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430280" y="1031760"/>
            <a:ext cx="6286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5: DOMINANT COLOR– 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719360" y="126540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5: DOMINANT COLOR– 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33520" y="1012680"/>
            <a:ext cx="6286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5: DOMINANT COLOR – 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433520" y="961920"/>
            <a:ext cx="6286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439560"/>
          <a:ext cx="8229600" cy="5222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5: DOMINANT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this class of four photos in order of best to worst.  The next four slides has a full screen view of each photo.  Write your placing down on paper then view the last slide of this class for the official placing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and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3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ARK YOUR PLACING NOW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nce all 4-H members have placed class advance to next slide for resul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31720" y="1724040"/>
            <a:ext cx="1895400" cy="151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93800" y="1720800"/>
            <a:ext cx="1900440" cy="1519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4651200" y="1720800"/>
            <a:ext cx="1899000" cy="15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6697800" y="1724040"/>
            <a:ext cx="1896840" cy="151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stopsign.png"/>
          <p:cNvPicPr/>
          <p:nvPr/>
        </p:nvPicPr>
        <p:blipFill>
          <a:blip r:embed="rId5"/>
          <a:stretch/>
        </p:blipFill>
        <p:spPr>
          <a:xfrm>
            <a:off x="4081320" y="3976560"/>
            <a:ext cx="86364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439560"/>
          <a:ext cx="8229600" cy="5583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5: DOMINANT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this class of four photos in order of best to worst.  The next four slides has a full screen view of each photo.  Write your placing down on paper then view the last slide of this class for the official placing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and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t spots in lighting (very dark to very l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true focal point in ph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than meets the eye!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ing is a challenge in ph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focal point and color corr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que photo – who would have known lettuce could be photogenic!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l concept but blurry and dar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8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90"/>
                          </a:solidFill>
                          <a:latin typeface="Calibri"/>
                        </a:rPr>
                        <a:t>OFFICIAL PLACING: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90"/>
                          </a:solidFill>
                          <a:latin typeface="Calibri"/>
                        </a:rPr>
                        <a:t>3 – 2 – 1 –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 - 3 -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cu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31720" y="1724040"/>
            <a:ext cx="1895400" cy="151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2593800" y="1720800"/>
            <a:ext cx="190044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651200" y="1720800"/>
            <a:ext cx="1899000" cy="1519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6697800" y="1724040"/>
            <a:ext cx="18968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20:26:12Z</dcterms:created>
  <dc:creator>Toby Lepley</dc:creator>
  <dc:description/>
  <dc:language>en-US</dc:language>
  <cp:lastModifiedBy>Misty M. Cathey</cp:lastModifiedBy>
  <dcterms:modified xsi:type="dcterms:W3CDTF">2023-07-17T13:54:03Z</dcterms:modified>
  <cp:revision>18</cp:revision>
  <dc:subject/>
  <dc:title>Texas 4-H Photography Judging PRACTICE SET - #1</dc:title>
</cp:coreProperties>
</file>