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D709-6AE4-4AB4-AC17-FFEBE9BE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2042-B2D5-494F-9506-DB9081D1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7162-DE03-4FA6-9808-0B873D7ED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7CE0-C86F-4C7A-8B0B-56C12BB3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9650-D3DF-4347-AF62-8508341D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AA91-209C-4827-A08A-A0ED2785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C264-1D19-445A-8D7E-D992F50B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4E27-A153-4366-B088-127C994A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0552-3BD8-4DF5-87A5-2ED4426D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6271-28AE-4A9F-9E72-69B3FDC3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8C02-A0A7-4D7F-93D2-55E5C6E4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60E6-ABA7-4FA5-AD4E-02DC5B98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BF7F22-AB7B-4AE7-84FF-53B4D51076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F232EE-866B-46F1-8718-F6DA02386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976040"/>
            <a:ext cx="777240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exas 4-H Photography Judging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2016 PRACTICE SET - #1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EPPER PHOTOGRAP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8640" y="4830480"/>
            <a:ext cx="82504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he Photo classes in this Power Point are for you to try your judging skills. Select a class to judge and try your No photograph can be used for any purpose without written permission of the original organization or the photographe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439560"/>
          <a:ext cx="8229600" cy="34862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9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ACTICE SET #1: PEPP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ce this class of four photos in order of best to worst.  The next four slides has a full screen view of each photo.  Write your placing down on paper then view the last slide of this class for the official placing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 and reas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6724800" y="1724040"/>
            <a:ext cx="1895400" cy="1515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4653000" y="1724040"/>
            <a:ext cx="1895400" cy="1515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597040" y="1724040"/>
            <a:ext cx="1893960" cy="1515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tretch/>
        </p:blipFill>
        <p:spPr>
          <a:xfrm>
            <a:off x="531720" y="1724040"/>
            <a:ext cx="189540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57200" y="439560"/>
          <a:ext cx="8229600" cy="371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ACTICE SET #1: PEPPERS– PHOTO #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430280" y="1031760"/>
            <a:ext cx="6286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" y="439560"/>
          <a:ext cx="8229600" cy="371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ACTICE SET #1: PEPPERS– PHOTO #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719360" y="1265400"/>
            <a:ext cx="5715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439560"/>
          <a:ext cx="8229600" cy="371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ACTICE SET #1: PEPPERS– PHOTO #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433520" y="1012680"/>
            <a:ext cx="6286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57200" y="439560"/>
          <a:ext cx="8229600" cy="371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ACTICE SET #1: PEPPERS – PHOTO #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433520" y="961920"/>
            <a:ext cx="6286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439560"/>
          <a:ext cx="8229600" cy="52228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ACTICE SET #1: PEPP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ce this class of four photos in order of best to worst.  The next four slides has a full screen view of each photo.  Write your placing down on paper then view the last slide of this class for the official placing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 and reas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736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ARK YOUR PLACING NOW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nce all 4-H members have placed class advance to next slide for result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531720" y="1724040"/>
            <a:ext cx="1895400" cy="1515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2593800" y="1720800"/>
            <a:ext cx="1900440" cy="1519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4651200" y="1720800"/>
            <a:ext cx="1899000" cy="151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4"/>
          <a:stretch/>
        </p:blipFill>
        <p:spPr>
          <a:xfrm>
            <a:off x="6697800" y="1724040"/>
            <a:ext cx="1896840" cy="1517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stopsign.png"/>
          <p:cNvPicPr/>
          <p:nvPr/>
        </p:nvPicPr>
        <p:blipFill>
          <a:blip r:embed="rId5"/>
          <a:stretch/>
        </p:blipFill>
        <p:spPr>
          <a:xfrm>
            <a:off x="4081320" y="3976560"/>
            <a:ext cx="86364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439560"/>
          <a:ext cx="8229600" cy="54007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ACTICE SET #1: PEPP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ce this class of four photos in order of best to worst.  The next four slides has a full screen view of each photo.  Write your placing down on paper then view the last slide of this class for the official placing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 and reas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9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brant colors featu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fuzzi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ld be zoomed in m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t table out of pho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most too much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rd to focus on the pho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lent use of texture, focus, and rule of 1/3’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 #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se light – too d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 con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90"/>
                          </a:solidFill>
                          <a:latin typeface="Calibri"/>
                        </a:rPr>
                        <a:t>OFFICIAL PLACING: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90"/>
                          </a:solidFill>
                          <a:latin typeface="Calibri"/>
                        </a:rPr>
                        <a:t>3 – 1 – 2 –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 - 3 -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cu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531720" y="1724040"/>
            <a:ext cx="1895400" cy="1515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2593800" y="1720800"/>
            <a:ext cx="1900440" cy="151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4651200" y="1720800"/>
            <a:ext cx="1899000" cy="1519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4"/>
          <a:stretch/>
        </p:blipFill>
        <p:spPr>
          <a:xfrm>
            <a:off x="6697800" y="1724040"/>
            <a:ext cx="189684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2T20:26:12Z</dcterms:created>
  <dc:creator>Toby Lepley</dc:creator>
  <dc:description/>
  <dc:language>en-US</dc:language>
  <cp:lastModifiedBy>Misty M. Cathey</cp:lastModifiedBy>
  <dcterms:modified xsi:type="dcterms:W3CDTF">2023-07-17T13:52:18Z</dcterms:modified>
  <cp:revision>11</cp:revision>
  <dc:subject/>
  <dc:title>Texas 4-H Photography Judging PRACTICE SET - #1</dc:title>
</cp:coreProperties>
</file>