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ACF-2F7E-4FD2-8BA2-115DEAC2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219-7089-450D-9CE7-582F4116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485-8757-4347-A39F-B379AADD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4F8-49FD-4CC0-8287-7EF2D240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774-1466-4429-AD2F-50202B97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5F3-5C51-4B5B-84EF-56B5AEF2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569-1CF6-4EB6-B5BC-BC90AA93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BD8-EA9C-4A53-A1B2-E34320D5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11B-3E88-40C5-8136-07A01555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4F6-1F39-4ADD-B944-9C6132D0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890-C4E1-4F24-A6E8-1D03A5E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E39-E622-46E4-897F-1A6F3807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C0C21-0EB7-4378-AAF4-82AE4067E3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4BE19-998A-4A18-9E19-498B87AD9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7604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xas 4-H Photography Judging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2016 PRACTICE SET - #7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BJECTS PHOT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8640" y="4830480"/>
            <a:ext cx="82504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Photo classes in this Power Point are for you to try your judging skills. Select a class to judge and try your No photograph can be used for any purpose without written permission of the original organization or the photographe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439560"/>
          <a:ext cx="8229600" cy="3486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9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7: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7066080" y="1724040"/>
            <a:ext cx="1212840" cy="1515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5300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597040" y="1724040"/>
            <a:ext cx="1893960" cy="151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873000" y="1724040"/>
            <a:ext cx="12128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7: OBJECTS– 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562120" y="1031760"/>
            <a:ext cx="4023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7: OBJECTS– 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719360" y="126540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7: OBJECTS– 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33520" y="1012680"/>
            <a:ext cx="6286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7: OBJECTS – 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565360" y="961920"/>
            <a:ext cx="402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439560"/>
          <a:ext cx="8229600" cy="5222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7: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3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RK YOUR PLACING NOW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nce all 4-H members have placed class advance to next slide for resul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873000" y="1724040"/>
            <a:ext cx="1212840" cy="151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93800" y="1720800"/>
            <a:ext cx="1900440" cy="151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4651200" y="1720800"/>
            <a:ext cx="1899000" cy="15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7039080" y="1724040"/>
            <a:ext cx="1214280" cy="151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stopsign.png"/>
          <p:cNvPicPr/>
          <p:nvPr/>
        </p:nvPicPr>
        <p:blipFill>
          <a:blip r:embed="rId5"/>
          <a:stretch/>
        </p:blipFill>
        <p:spPr>
          <a:xfrm>
            <a:off x="4081320" y="3976560"/>
            <a:ext cx="8636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439560"/>
          <a:ext cx="8229600" cy="5400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7: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focus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fer focus on diamond, but  focal point is still goo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s a strong impac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e concept, loss of natural light and loss of line to rose and book. Grass creates distraction from impac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crisp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 use of lin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mendous focal poi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s a story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ance loses focus and difficult to tell focu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90"/>
                          </a:solidFill>
                          <a:latin typeface="Calibri"/>
                        </a:rPr>
                        <a:t>OFFICIAL PLACING: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90"/>
                          </a:solidFill>
                          <a:latin typeface="Calibri"/>
                        </a:rPr>
                        <a:t>1 – 3 – 4 –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- 2 -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cu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873000" y="1724040"/>
            <a:ext cx="1212840" cy="151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2593800" y="1720800"/>
            <a:ext cx="190044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651200" y="1720800"/>
            <a:ext cx="1899000" cy="1519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7039080" y="1724040"/>
            <a:ext cx="12142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20:26:12Z</dcterms:created>
  <dc:creator>Toby Lepley</dc:creator>
  <dc:description/>
  <dc:language>en-US</dc:language>
  <cp:lastModifiedBy>Misty M. Cathey</cp:lastModifiedBy>
  <dcterms:modified xsi:type="dcterms:W3CDTF">2023-07-17T13:54:37Z</dcterms:modified>
  <cp:revision>21</cp:revision>
  <dc:subject/>
  <dc:title>Texas 4-H Photography Judging PRACTICE SET - #1</dc:title>
</cp:coreProperties>
</file>