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A882-55AD-4D9B-8B99-1B2CC680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725B-DC76-4168-AAD7-B8F90990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BD2-390F-448F-AFD9-74291417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B3C7-1E71-4699-8F43-70C727FC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32D-DB0F-47B6-9B10-F041494F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C84D-52E9-4946-9B31-E6B126E3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2C57-2B39-4B26-B32C-92EEF8B7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88F7-6FE6-45D4-B762-40B0C64F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3FCB-1AEF-496B-9203-F4F08BB7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843-DE72-4FEE-A8FE-28D0F451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AC9-F6C6-4589-8FC7-E2964342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B77-31D8-4EB8-9ED6-40C6E211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2420C-DB1C-4424-AEEA-6A79CD69EB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55C9F4-A525-4CAD-8FC9-D0E60D942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976040"/>
            <a:ext cx="77724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exas 4-H Photography Judging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2016 PRACTICE SET - #3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ACRO PHOTOGRAP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8640" y="4830480"/>
            <a:ext cx="82504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he Photo classes in this Power Point are for you to try your judging skills. Select a class to judge and try your No photograph can be used for any purpose without written permission of the original organization or the photographe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439560"/>
          <a:ext cx="8229600" cy="34862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9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3: MAC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ce this class of four photos in order of best to worst.  The next four slides has a full screen view of each photo.  Write your placing down on paper then view the last slide of this class for the official placing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and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6724800" y="1724040"/>
            <a:ext cx="1895400" cy="1515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653000" y="1724040"/>
            <a:ext cx="1895400" cy="1515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597040" y="1724040"/>
            <a:ext cx="1893960" cy="1515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tretch/>
        </p:blipFill>
        <p:spPr>
          <a:xfrm>
            <a:off x="531720" y="1724040"/>
            <a:ext cx="189540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7200" y="439560"/>
          <a:ext cx="8229600" cy="371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3: MACROS– PHOTO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430280" y="1031760"/>
            <a:ext cx="6286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" y="439560"/>
          <a:ext cx="8229600" cy="371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3: MACROS– PHOTO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719360" y="126540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439560"/>
          <a:ext cx="8229600" cy="371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3: MACROS– PHOTO #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433520" y="1012680"/>
            <a:ext cx="6286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57200" y="439560"/>
          <a:ext cx="8229600" cy="371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3: MACROS – PHOTO #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433520" y="961920"/>
            <a:ext cx="6286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439560"/>
          <a:ext cx="8229600" cy="5222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3: MAC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ce this class of four photos in order of best to worst.  The next four slides has a full screen view of each photo.  Write your placing down on paper then view the last slide of this class for the official placing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and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736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ARK YOUR PLACING NOW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nce all 4-H members have placed class advance to next slide for resul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531720" y="1724040"/>
            <a:ext cx="1895400" cy="1515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593800" y="1720800"/>
            <a:ext cx="1900440" cy="1519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4651200" y="1720800"/>
            <a:ext cx="1899000" cy="151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4"/>
          <a:stretch/>
        </p:blipFill>
        <p:spPr>
          <a:xfrm>
            <a:off x="6697800" y="1724040"/>
            <a:ext cx="1896840" cy="1517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stopsign.png"/>
          <p:cNvPicPr/>
          <p:nvPr/>
        </p:nvPicPr>
        <p:blipFill>
          <a:blip r:embed="rId5"/>
          <a:stretch/>
        </p:blipFill>
        <p:spPr>
          <a:xfrm>
            <a:off x="4081320" y="3976560"/>
            <a:ext cx="86364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439560"/>
          <a:ext cx="8229600" cy="5400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3: MAC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ce this class of four photos in order of best to worst.  The next four slides has a full screen view of each photo.  Write your placing down on paper then view the last slide of this class for the official placing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and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mendous photo- great reflection and color balance in pho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re, camera use and expression is great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 use bokeh effect especially considering bre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utiful photo that creates question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 concept and focal point through out phot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uld have been taken a millisecond soo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90"/>
                          </a:solidFill>
                          <a:latin typeface="Calibri"/>
                        </a:rPr>
                        <a:t>OFFICIAL PLACING: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90"/>
                          </a:solidFill>
                          <a:latin typeface="Calibri"/>
                        </a:rPr>
                        <a:t>1 – 2 – 3 –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- 2 -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cu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531720" y="1724040"/>
            <a:ext cx="1895400" cy="1515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2593800" y="1720800"/>
            <a:ext cx="1900440" cy="151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4651200" y="1720800"/>
            <a:ext cx="1899000" cy="1519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4"/>
          <a:stretch/>
        </p:blipFill>
        <p:spPr>
          <a:xfrm>
            <a:off x="6697800" y="1724040"/>
            <a:ext cx="189684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20:26:12Z</dcterms:created>
  <dc:creator>Toby Lepley</dc:creator>
  <dc:description/>
  <dc:language>en-US</dc:language>
  <cp:lastModifiedBy>Misty M. Cathey</cp:lastModifiedBy>
  <dcterms:modified xsi:type="dcterms:W3CDTF">2023-07-17T13:53:01Z</dcterms:modified>
  <cp:revision>17</cp:revision>
  <dc:subject/>
  <dc:title>Texas 4-H Photography Judging PRACTICE SET - #1</dc:title>
</cp:coreProperties>
</file>